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43.jpeg" ContentType="image/jpeg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19D2-0DA4-4F98-B209-C2AC965A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A56-0BE8-4FE3-8E98-AE0C97C9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0BD-F54E-4AB9-921E-0BE0806E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2E35-D367-4EBD-9AC5-1171F57A1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A172-8133-4824-8EEA-44113537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6B5-5A8A-4D05-9A18-D0232A861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AD1-FA3B-484B-9139-A77A2B5D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CD8-D4F8-4B7B-8665-2D54BA71C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DD39-538F-4895-A333-CEA749531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79E-D077-4D51-BF07-7D3F509B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FCA-DB72-4220-A15F-05FEF5E5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E9A-82AC-4538-994E-53DA2786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30691-40C7-4357-BC6E-0727AC4F2D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716280"/>
            <a:ext cx="64072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Bodoni MT"/>
              </a:rPr>
              <a:t>Españ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762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17654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Familia R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02280" y="3357720"/>
            <a:ext cx="4546440" cy="2727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67120" y="324000"/>
            <a:ext cx="3981600" cy="2889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4913" t="0" r="6541" b="0"/>
          <a:stretch/>
        </p:blipFill>
        <p:spPr>
          <a:xfrm>
            <a:off x="324000" y="2060640"/>
            <a:ext cx="374472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3640" cy="5467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03280" y="2060640"/>
            <a:ext cx="503280" cy="1224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47530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El tiemp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03640" y="3500280"/>
            <a:ext cx="3619800" cy="2959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3960720" cy="396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84720" y="549360"/>
            <a:ext cx="22482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Los monu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34136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134136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ára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889440" cy="1968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La Mezquita de Córdoba"/>
          <p:cNvPicPr/>
          <p:nvPr/>
        </p:nvPicPr>
        <p:blipFill>
          <a:blip r:embed="rId2"/>
          <a:stretch/>
        </p:blipFill>
        <p:spPr>
          <a:xfrm>
            <a:off x="5435640" y="1916280"/>
            <a:ext cx="2962080" cy="2222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3933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arta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623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 Cor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2952720" cy="1968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61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ita Augu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68360" y="4581360"/>
            <a:ext cx="38876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El fút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022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La vida en el cam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3375000" cy="225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460680" cy="2593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168720" cy="1911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84360" y="1268280"/>
            <a:ext cx="280980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132000" y="4724280"/>
            <a:ext cx="244800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El mapa de Espa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40872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El paisaje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3960720" cy="2973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2232000" cy="159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24000" y="3213000"/>
            <a:ext cx="43923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392720" cy="1050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03280" y="1692360"/>
            <a:ext cx="2305080" cy="2023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32360" y="963720"/>
            <a:ext cx="3641760" cy="273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11280" y="3917880"/>
            <a:ext cx="79930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MT"/>
              </a:rPr>
              <a:t>La comi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tort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 chori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 jam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 pan bl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pa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 vino t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na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ver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82276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80000" y="4724280"/>
            <a:ext cx="2438280" cy="162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588000" y="4149720"/>
            <a:ext cx="2376720" cy="2548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0" t="0" r="2556" b="0"/>
          <a:stretch/>
        </p:blipFill>
        <p:spPr>
          <a:xfrm>
            <a:off x="3924360" y="1557360"/>
            <a:ext cx="1784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673440" cy="292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3665520" cy="2749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987640" y="2276640"/>
            <a:ext cx="2695680" cy="2022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40360" y="0"/>
            <a:ext cx="2376360" cy="2368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940360" y="1413000"/>
            <a:ext cx="2741760" cy="2205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24000" y="4005360"/>
            <a:ext cx="39924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Fi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os Sanferminas (Pamplo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745080" cy="2865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46440" y="2708280"/>
            <a:ext cx="405792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809880" cy="420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356000" y="2205000"/>
            <a:ext cx="4356360" cy="32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619280" y="765000"/>
            <a:ext cx="509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s Fallas (Valenc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229200" cy="1954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780000" y="3716280"/>
            <a:ext cx="5003640" cy="2793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084720" y="404640"/>
            <a:ext cx="2853000" cy="3005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95280" y="3392640"/>
            <a:ext cx="2736720" cy="2625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360" y="2565360"/>
            <a:ext cx="49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Fiesta de Abril (Sevil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06:55:46Z</dcterms:created>
  <dc:creator>g.09.wipfler.elena</dc:creator>
  <dc:description/>
  <dc:language>en-US</dc:language>
  <cp:lastModifiedBy>g.09.wipfler.elena</cp:lastModifiedBy>
  <dcterms:modified xsi:type="dcterms:W3CDTF">2010-07-27T06:41:45Z</dcterms:modified>
  <cp:revision>5</cp:revision>
  <dc:subject/>
  <dc:title>España</dc:title>
</cp:coreProperties>
</file>